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3C2-7D77-40BF-A1B1-52E00FCB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D0D-C753-4843-B341-2047C135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FD2-F1CA-4F1A-ACE0-7DE5AE4F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6F8-7580-4865-9708-04DADBCC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CF35-25FB-44B0-837A-D3A5C77B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75C-9C7E-424F-A8C0-CB81B279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7D08-ADFB-44C3-8D05-77C9E6E2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08A-2330-43F6-ADDF-0584E237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1DC4-EAF6-4371-989F-9F441C5A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4C2D-4366-4B03-B9DD-B39C230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B06-A0A0-485A-9567-889B8D17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507-B86B-420A-A27B-0663DF7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9D8E-C681-46D0-AE85-781678A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5965-A2C8-42B7-81C2-0AD12D8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408-2732-46CE-B318-43B05F69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0B46-756B-4BAB-A712-5F1D521C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6B58-4E81-41A8-BAC2-3AF63015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8A5-8175-42AC-8326-B0EB212C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4D7-678D-4827-8E84-552C22E3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02F-F68D-4D98-8268-5DEC980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245-99F5-4D3A-AD57-6598203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B36-F1D3-44E5-B059-9921CAC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737-3E74-4B0F-936F-A74E622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C19-55E4-4328-B8B2-EDD5854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796F3-2EA7-4A33-8913-168C8EEFDB1E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FD2DE-3F8C-4172-B507-C94E26A5592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74458-E685-4244-BD26-315F6F9E62E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E2199-C1C3-408E-818A-0D1D2DC8CC5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17000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tical route by # 1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 has initial advantage on judgment---has had more reps with this type of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ve Yard Highwa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nd Lea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Run Parall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i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ad and Ey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n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ural Dri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pfield Shoul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side Rele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’s Leng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gh Poi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rst Access to Foot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KEY QUESTION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716040" y="574560"/>
            <a:ext cx="73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agram #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965240" y="59594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127240" y="44514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4"/>
          <p:cNvSpPr/>
          <p:nvPr/>
        </p:nvSpPr>
        <p:spPr>
          <a:xfrm flipV="1">
            <a:off x="1963800" y="3822840"/>
            <a:ext cx="1440" cy="213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Straight Arrow Connector 16"/>
          <p:cNvCxnSpPr/>
          <p:nvPr/>
        </p:nvCxnSpPr>
        <p:spPr>
          <a:xfrm flipH="1" flipV="1">
            <a:off x="1031040" y="2115360"/>
            <a:ext cx="934200" cy="17074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6" name="TextBox 19"/>
          <p:cNvSpPr/>
          <p:nvPr/>
        </p:nvSpPr>
        <p:spPr>
          <a:xfrm>
            <a:off x="2627280" y="1606680"/>
            <a:ext cx="3614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Receiver attempts to create horizontal separation---fade to the ball.  QB can then lay the ball in.  We must cut off receiver.  Make the QB make a perfect thro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282600" y="288756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R wants grass, real e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438880" y="5961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Straight Arrow Connector 23"/>
          <p:cNvCxnSpPr/>
          <p:nvPr/>
        </p:nvCxnSpPr>
        <p:spPr>
          <a:xfrm flipH="1" flipV="1">
            <a:off x="672480" y="1237680"/>
            <a:ext cx="4786920" cy="472356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00" name="Straight Connector 25"/>
          <p:cNvSpPr/>
          <p:nvPr/>
        </p:nvSpPr>
        <p:spPr>
          <a:xfrm flipH="1">
            <a:off x="130320" y="576360"/>
            <a:ext cx="1440" cy="559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152280" y="5676840"/>
            <a:ext cx="9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d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228600" y="576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defi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ip to hip or half an arm’s length behind.  Match the hip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rm’s length or more behin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un parallel with the wide receiver.  Do not run side by side with the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look and lean technique---zone turn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s natural drift on zone tur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e ball, feel wid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 natural drift to field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 of control---do not look back.  You will lose the receiver.  There is a natural drift to field (away from wr) that creates separation when you look back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indicators:  wide receiver head/han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rip the ball, make the tackl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all being caught---go for strip with your closest arm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ten slight hesitation by receiver to adjust to the footb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n late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/Lean:  you must lean, work toward football, feel th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panic.  The only thing that matters is if the ball is caught or not.  Win l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04:48Z</dcterms:created>
  <dc:creator>matt  fisher</dc:creator>
  <dc:description/>
  <dc:language>en-US</dc:language>
  <cp:lastModifiedBy>Ed Center RLASD</cp:lastModifiedBy>
  <dcterms:modified xsi:type="dcterms:W3CDTF">2010-04-28T15:38:50Z</dcterms:modified>
  <cp:revision>3</cp:revision>
  <dc:subject/>
  <dc:title>Defending the Fade </dc:title>
</cp:coreProperties>
</file>